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1.png" ContentType="image/png"/>
  <Override PartName="/ppt/media/image6.wmf" ContentType="image/x-wmf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A54F-97B1-41B7-BCA8-DFEE2A21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3BA7-FED0-4DE5-9B93-621F973B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5E06-8225-457C-AFD5-6F560A7C7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9625-C259-4866-ACB0-444BA193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2599-60B8-4EED-9918-E791965B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73E9-EAD5-4D6D-9EB8-7CE84BFF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5AE1-FB29-4D16-A2CD-097E4558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A46E-0EF6-4623-8C47-F28B1873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8ECE-5A73-4F16-93C0-94D2A98A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7B0F-3D6E-413B-B00D-56A2696A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A878-BE18-4A61-8D46-37670E51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BCDE-712E-410F-AE38-576E6772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A3A0-58E0-4DF3-8A32-490A27A84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457200"/>
            <a:ext cx="8534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иртуальные лабораторные работы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2133720"/>
            <a:ext cx="7848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ольт-Амперная характерист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724120" y="3657600"/>
            <a:ext cx="3733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табилитрон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457880" y="46576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00160" y="5410080"/>
            <a:ext cx="54104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Туннельного диод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38080" y="3049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Вольт-амперная характеристика стабилитр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143000"/>
          <a:ext cx="6887880" cy="52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688788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33280" y="1295280"/>
          <a:ext cx="4462560" cy="47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1295280"/>
                    <a:ext cx="4462560" cy="47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876920" y="1828800"/>
            <a:ext cx="3084480" cy="4267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66680" y="3049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Вольт-амперная характеристика реального СТАБИЛИТРОНА в области обратного то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-76320"/>
          <a:ext cx="9372600" cy="693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76320"/>
                    <a:ext cx="9372600" cy="69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57200" y="1447920"/>
          <a:ext cx="8381880" cy="47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38188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066680" y="457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Таблица фиксирования данных измер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244440" y="304920"/>
          <a:ext cx="8731440" cy="637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440" y="304920"/>
                    <a:ext cx="8731440" cy="63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93840" y="411120"/>
            <a:ext cx="396216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end..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203640" y="5445000"/>
            <a:ext cx="554364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.. to be continue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371600" y="304920"/>
            <a:ext cx="6400800" cy="30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Туннельны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666880" y="2971800"/>
            <a:ext cx="3949920" cy="30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о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362320" y="1133640"/>
          <a:ext cx="4811760" cy="56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133640"/>
                    <a:ext cx="4811760" cy="56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905120" y="3049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Вольт-Амперная характеристика СТАБИЛИТР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695160"/>
            <a:ext cx="9144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0"/>
          <a:ext cx="9448920" cy="70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44892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28600" y="1515960"/>
          <a:ext cx="8686800" cy="473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15960"/>
                    <a:ext cx="8686800" cy="47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219320" y="3808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Вид таблицы предлагаемой для запол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09480" y="184320"/>
          <a:ext cx="7391520" cy="66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4320"/>
                    <a:ext cx="7391520" cy="66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28480" y="299880"/>
          <a:ext cx="8237520" cy="617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99880"/>
                    <a:ext cx="8237520" cy="617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371600" y="1924200"/>
            <a:ext cx="6400800" cy="30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абилитро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06:43:28Z</dcterms:created>
  <dc:creator>407</dc:creator>
  <dc:description/>
  <dc:language>en-US</dc:language>
  <cp:lastModifiedBy>angel_saver</cp:lastModifiedBy>
  <dcterms:modified xsi:type="dcterms:W3CDTF">2005-05-27T08:46:14Z</dcterms:modified>
  <cp:revision>5</cp:revision>
  <dc:subject/>
  <dc:title>Заголовок слайда отсутствует</dc:title>
</cp:coreProperties>
</file>